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22E7C-B8F0-4F6F-BCCC-303B5C1AD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F99F3-A8FE-4924-A108-194DFEADB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86D72-49F9-4028-8059-F74D98C40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532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664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532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664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5946D-22F2-4324-B0B5-533E78022E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79460-496D-4A26-A7A9-163ECBEEF7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ED1D2-BE41-4E5D-86C9-5F08F29DD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3D4EA-E372-48EF-8447-740F779AB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65ECA-BEF7-43CE-8259-D8B5B9B36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C7D68-D9CC-49D0-A524-9ED7D0E11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137A5-A493-4D89-9EF3-2A76362F1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E0C3C-BCAD-4C72-8DD0-5022F0247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FF4FF-BD04-4F64-9D24-A477266DD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0064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.1-</a:t>
            </a:r>
            <a:fld id="{F92833CF-EA0E-42C4-A28E-FE6C7B2A8B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684360" y="15238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Point de d</a:t>
            </a:r>
            <a:r>
              <a:rPr b="1" lang="en-US" sz="2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dentify or point out a noun with the French equival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/the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at/th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use a demonstrative adjective before the 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06B2E-FA1B-4920-88D7-5A27FE14F2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143000" y="4191120"/>
            <a:ext cx="6647040" cy="1747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38080" y="1495440"/>
            <a:ext cx="7162920" cy="256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B7417-4C33-4C87-BAD1-714090B874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71600" y="1886040"/>
            <a:ext cx="6311880" cy="30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49D1F-C004-4D61-9B6D-7AA94DDE84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0769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the forms of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refer to a noun that is near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/ the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one that is far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at/th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the meaning will usually be clear from con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81080" y="2967120"/>
            <a:ext cx="5556240" cy="1492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705040" y="4495680"/>
            <a:ext cx="3733920" cy="18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3459D-78C4-4CC2-8B82-9AF9FD5AC8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8459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ke it especially clear that you’re referring to something near versus something far, ad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-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-l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pectively, to the noun following the demonstrative adj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05120" y="3352680"/>
            <a:ext cx="5472000" cy="156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0EDA6-D85C-4879-888A-E5F3677E65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4360" y="17524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-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-l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same sentence to contras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81080" y="4038480"/>
            <a:ext cx="4972320" cy="229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600200" y="2590920"/>
            <a:ext cx="5867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CFF64-46A1-4D7B-8616-6EAD6EF943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1482840"/>
            <a:ext cx="8048520" cy="522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704880" y="2673360"/>
          <a:ext cx="7696080" cy="3726000"/>
        </p:xfrm>
        <a:graphic>
          <a:graphicData uri="http://schemas.openxmlformats.org/drawingml/2006/table">
            <a:tbl>
              <a:tblPr/>
              <a:tblGrid>
                <a:gridCol w="7696080"/>
              </a:tblGrid>
              <a:tr h="375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9960" indent="-399960">
                        <a:spcAft>
                          <a:spcPts val="56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 glace au chocolat est très bonne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Aft>
                          <a:spcPts val="56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’est-ce que tu penses de __________ cadeau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Aft>
                          <a:spcPts val="56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 homme-là est l’hôte de la fê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Aft>
                          <a:spcPts val="56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préfères __________ biscuits-ci ou __________ biscuits-là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Aft>
                          <a:spcPts val="56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aimez mieux __________ dessert-ci ou __________ dessert-là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Aft>
                          <a:spcPts val="56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 année-ci, on va fêter l’anniversaire de mariage de nos parents en famil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Aft>
                          <a:spcPts val="56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achètes __________ éclair-là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Aft>
                          <a:spcPts val="56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achetez __________ montr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Aft>
                          <a:spcPts val="56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 surprise va être géniale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Aft>
                          <a:spcPts val="56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 invité-là est antipathiqu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961920" y="1693800"/>
            <a:ext cx="7356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7440" indent="-1657440">
              <a:spcBef>
                <a:spcPts val="649"/>
              </a:spcBef>
              <a:tabLst>
                <a:tab algn="l" pos="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plétez les phrases avec la forme correcte de l’adjectif démonstratif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28840" y="2625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83c8"/>
                </a:solidFill>
                <a:latin typeface="Comic Sans MS"/>
              </a:rPr>
              <a:t>C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pyright © 2010 Vista Higher Learning. All rights reserved.</dc:creator>
  <dc:description/>
  <dc:language>en-US</dc:language>
  <cp:lastModifiedBy>Jason Miranda</cp:lastModifiedBy>
  <dcterms:modified xsi:type="dcterms:W3CDTF">2008-11-12T20:11:38Z</dcterms:modified>
  <cp:revision>15</cp:revision>
  <dc:subject>Structures 11.1</dc:subject>
  <dc:title>PROMENADES</dc:title>
</cp:coreProperties>
</file>